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8EB9-340A-444C-AA8A-0CEC64A7F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5841-C7F8-4E58-AE47-3610B717A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EA63-2E07-4426-8BB9-7CE7D572B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08D01-8CBA-4297-8AC9-AB70791A6A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C7ED-7226-4109-9319-5B973E96D5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7C77-97AB-4FE0-A132-B0F37A590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F402-9DA6-42A7-9C17-C1E31D9FB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3445F-273D-4AB8-A78E-38A220009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5313B-AF18-44C7-9448-4AEA2C996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6C8E-6F12-4E95-9408-0E368B707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67BB5-1E30-459C-BC26-A24443AD0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2BB3-0188-419C-B797-5A082A0EB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7CEB-F8AC-4B0E-B8E7-DE01E44A3B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reedigitalphotos.net/images/Interiors_g380-Empty_Room_With_Gallery_p82136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esources.curriculum.org/secretariat/coplanning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9B78-69DD-4175-A9F6-1700592E1A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Breakout 6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Connecting our Learning with Different Representation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tails – 36 km rac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rkers every twelfth of the route’s tota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water stations equally spaced along the way and the last is at the finis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year Rachel and Mark both ran 1/2 of the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 Rachel knows she ran 7/12 of the route because she counted the markers and stopped at the seventh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ran to the fifth wat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kilometres did they run and how much further did they run compared to las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7CC7-73C6-4B2A-9EF3-ACAA3BA943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 Solu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mathematical learning to sh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4A49-3247-418E-A2DD-20C57400DB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900057318.WMF"/>
          <p:cNvPicPr/>
          <p:nvPr/>
        </p:nvPicPr>
        <p:blipFill>
          <a:blip r:embed="rId1"/>
          <a:stretch/>
        </p:blipFill>
        <p:spPr>
          <a:xfrm>
            <a:off x="4876920" y="2286000"/>
            <a:ext cx="266364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instorm at your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hematics did we engage in as we solved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rategies surfaced in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solutions lead to emergent thinking about multiplication and division of f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D954-1E04-474F-B135-E48FB9447C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a number line an effective model for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models did you notice in the gallery wal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E308-026F-4687-BFA2-44EC6B9E4D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 Questions con’t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engage students in a contextual problem that leads to multiplicative thinking as related to fractions and to considering division of fractions prior to teaching algorithms for these opera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or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CB40-2952-4765-92AD-8B9309F6EE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D032-94EC-46EB-9855-9B89B8E082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419720" y="457200"/>
            <a:ext cx="4390920" cy="4781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609480" y="16765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from Cath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– Possible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D212-9BA9-4B97-872F-33671A9EBF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86736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– Possible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6B9B-B74C-4B27-A1EF-4E1B556696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16292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3477-C688-49CB-A065-1AFD42D2FE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94368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DDBA-8DAB-45F5-895B-8EFF7A4469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857680" cy="2533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419720" y="304920"/>
            <a:ext cx="4257720" cy="53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irthday Budd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 the people who have the same birthday month a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into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up a 0 – 4 number line and som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740C-3128-4B02-863A-CF674665CE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689F-A96E-4C1B-A756-2C986028D6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rdering and Compar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the following fractions on your number 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½,   ¾,   5/6,   3 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/4,   16/4,   15/5,    3 3/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6,   1 ½,   1 5/10,   2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AC21-A4F2-40FF-A1B3-BEE30722F2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 /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47A8-285E-4583-BB42-31CE4578BD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http://c95711.r11.cf3.rackcdn.com/Gallery_The_picture_blue_w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523880"/>
            <a:ext cx="5410080" cy="35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Preview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unpack key understandings about fr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address the continuum of learning that might exist in a Grade 6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the teacher’s questio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student representations and dialog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D11D-4A08-4874-A82C-0BC537F786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MH900434799.JPG"/>
          <p:cNvPicPr/>
          <p:nvPr/>
        </p:nvPicPr>
        <p:blipFill>
          <a:blip r:embed="rId1"/>
          <a:stretch/>
        </p:blipFill>
        <p:spPr>
          <a:xfrm>
            <a:off x="4343400" y="16765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NS The Three Part Lesson in Mathematics; Supporting Stu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3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esources.curriculum.org/secretariat/coplannin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 The Classroo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8335-2874-4AAB-8E66-5A3A64D428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unpack key understandings about fr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address the continuum of learning that might exist in a Grade 6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the teacher’s questio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notice about student representations and dialog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FCE7-5658-4848-9DA4-EDC338D03B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unning for Fun</a:t>
            </a:r>
            <a:br>
              <a:rPr sz="4400"/>
            </a:br>
            <a:r>
              <a:rPr b="0" lang="en-US" sz="2400" spc="-1" strike="noStrike">
                <a:solidFill>
                  <a:srgbClr val="2b5ca9"/>
                </a:solidFill>
                <a:latin typeface="Arial"/>
              </a:rPr>
              <a:t>Cathy Fosnot; </a:t>
            </a:r>
            <a:r>
              <a:rPr b="0" i="1" lang="en-US" sz="2400" spc="-1" strike="noStrike">
                <a:solidFill>
                  <a:srgbClr val="2b5ca9"/>
                </a:solidFill>
                <a:latin typeface="Arial"/>
              </a:rPr>
              <a:t>Contexts for Learning Mathematics</a:t>
            </a:r>
            <a:endParaRPr b="0" lang="en-US" sz="2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story problem to th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76CE-A124-4246-B4FF-9821942185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P900424397.JPG"/>
          <p:cNvPicPr/>
          <p:nvPr/>
        </p:nvPicPr>
        <p:blipFill>
          <a:blip r:embed="rId1"/>
          <a:stretch/>
        </p:blipFill>
        <p:spPr>
          <a:xfrm>
            <a:off x="3429000" y="2362320"/>
            <a:ext cx="491508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tails – 26 mile rac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rkers every twelfth of the route’s tota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water stations equally spaced along the way and the last is at the finis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year Rachel and Mark both ran 1/2 of the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 Rachel knows she ran 7/12 of the route because she counted the markers and stopped at the seventh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ran to the fifth wat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miles did they run and how much further did they run compared to las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2CB0-DDC0-4772-8F2E-3C9075F05C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Pat Milot</cp:lastModifiedBy>
  <dcterms:modified xsi:type="dcterms:W3CDTF">2012-07-12T21:01:34Z</dcterms:modified>
  <cp:revision>39</cp:revision>
  <dc:subject/>
  <dc:title>&lt;Title&gt;</dc:title>
</cp:coreProperties>
</file>